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  <p:custShowLst>
    <p:custShow name="chapter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5"/>
        <p:sld r:id="rId17"/>
        <p:sld r:id="rId19"/>
        <p:sld r:id="rId20"/>
        <p:sld r:id="rId21"/>
        <p:sld r:id="rId23"/>
        <p:sld r:id="rId24"/>
        <p:sld r:id="rId25"/>
        <p:sld r:id="rId26"/>
        <p:sld r:id="rId27"/>
        <p:sld r:id="rId29"/>
        <p:sld r:id="rId30"/>
        <p:sld r:id="rId31"/>
        <p:sld r:id="rId32"/>
        <p:sld r:id="rId33"/>
        <p:sld r:id="rId35"/>
        <p:sld r:id="rId36"/>
        <p:sld r:id="rId37"/>
        <p:sld r:id="rId38"/>
        <p:sld r:id="rId41"/>
        <p:sld r:id="rId42"/>
      </p:sldLst>
    </p:custShow>
    <p:custShow name="bellringers" id="1">
      <p:sldLst>
        <p:sld r:id="rId5"/>
        <p:sld r:id="rId11"/>
        <p:sld r:id="rId25"/>
        <p:sld r:id="rId31"/>
      </p:sldLst>
    </p:custShow>
    <p:custShow name="transparencies" id="2">
      <p:sldLst>
        <p:sld r:id="rId24"/>
        <p:sld r:id="rId36"/>
      </p:sldLst>
    </p:custShow>
    <p:custShow name="SW7 sect 1" id="3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5"/>
        <p:sld r:id="rId17"/>
        <p:sld r:id="rId19"/>
        <p:sld r:id="rId20"/>
        <p:sld r:id="rId21"/>
        <p:sld r:id="rId23"/>
        <p:sld r:id="rId24"/>
        <p:sld r:id="rId25"/>
        <p:sld r:id="rId26"/>
        <p:sld r:id="rId27"/>
        <p:sld r:id="rId29"/>
        <p:sld r:id="rId30"/>
        <p:sld r:id="rId31"/>
        <p:sld r:id="rId32"/>
        <p:sld r:id="rId33"/>
        <p:sld r:id="rId35"/>
        <p:sld r:id="rId36"/>
        <p:sld r:id="rId37"/>
        <p:sld r:id="rId38"/>
        <p:sld r:id="rId41"/>
        <p:sld r:id="rId42"/>
      </p:sldLst>
    </p:custShow>
    <p:custShow name="SW7 sect 2" id="4">
      <p:sldLst>
        <p:sld r:id="rId11"/>
        <p:sld r:id="rId12"/>
        <p:sld r:id="rId13"/>
        <p:sld r:id="rId15"/>
        <p:sld r:id="rId17"/>
        <p:sld r:id="rId19"/>
        <p:sld r:id="rId20"/>
        <p:sld r:id="rId21"/>
        <p:sld r:id="rId23"/>
        <p:sld r:id="rId24"/>
        <p:sld r:id="rId25"/>
        <p:sld r:id="rId26"/>
        <p:sld r:id="rId27"/>
        <p:sld r:id="rId29"/>
        <p:sld r:id="rId30"/>
        <p:sld r:id="rId31"/>
        <p:sld r:id="rId32"/>
        <p:sld r:id="rId33"/>
        <p:sld r:id="rId35"/>
        <p:sld r:id="rId36"/>
        <p:sld r:id="rId37"/>
        <p:sld r:id="rId38"/>
        <p:sld r:id="rId41"/>
        <p:sld r:id="rId42"/>
      </p:sldLst>
    </p:custShow>
    <p:custShow name="SW7 sect 3" id="5">
      <p:sldLst>
        <p:sld r:id="rId25"/>
        <p:sld r:id="rId26"/>
        <p:sld r:id="rId27"/>
        <p:sld r:id="rId29"/>
        <p:sld r:id="rId30"/>
        <p:sld r:id="rId31"/>
        <p:sld r:id="rId32"/>
        <p:sld r:id="rId33"/>
        <p:sld r:id="rId35"/>
        <p:sld r:id="rId36"/>
        <p:sld r:id="rId37"/>
        <p:sld r:id="rId38"/>
        <p:sld r:id="rId41"/>
        <p:sld r:id="rId42"/>
      </p:sldLst>
    </p:custShow>
    <p:custShow name="SW7 sect 4" id="6">
      <p:sldLst>
        <p:sld r:id="rId31"/>
        <p:sld r:id="rId32"/>
        <p:sld r:id="rId33"/>
        <p:sld r:id="rId35"/>
        <p:sld r:id="rId36"/>
        <p:sld r:id="rId37"/>
        <p:sld r:id="rId38"/>
        <p:sld r:id="rId41"/>
        <p:sld r:id="rId42"/>
      </p:sldLst>
    </p:custShow>
    <p:custShow name="Vis Con" id="7">
      <p:sldLst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533412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6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4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9"/>
          <p:cNvSpPr/>
          <p:nvPr/>
        </p:nvSpPr>
        <p:spPr>
          <a:xfrm>
            <a:off x="4495680" y="6286680"/>
            <a:ext cx="1716120" cy="27432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134979" h="21600">
                <a:moveTo>
                  <a:pt x="0" y="0"/>
                </a:moveTo>
                <a:lnTo>
                  <a:pt x="134979" y="0"/>
                </a:lnTo>
                <a:lnTo>
                  <a:pt x="134979" y="21600"/>
                </a:lnTo>
                <a:lnTo>
                  <a:pt x="0" y="21600"/>
                </a:lnTo>
                <a:close/>
              </a:path>
              <a:path fill="lightenLess" w="134979" h="21600">
                <a:moveTo>
                  <a:pt x="0" y="0"/>
                </a:moveTo>
                <a:lnTo>
                  <a:pt x="134979" y="0"/>
                </a:lnTo>
                <a:lnTo>
                  <a:pt x="133579" y="1400"/>
                </a:lnTo>
                <a:lnTo>
                  <a:pt x="1400" y="1400"/>
                </a:lnTo>
                <a:close/>
              </a:path>
              <a:path fill="darken" w="134979" h="21600">
                <a:moveTo>
                  <a:pt x="134979" y="0"/>
                </a:moveTo>
                <a:lnTo>
                  <a:pt x="134979" y="21600"/>
                </a:lnTo>
                <a:lnTo>
                  <a:pt x="133579" y="20200"/>
                </a:lnTo>
                <a:lnTo>
                  <a:pt x="133579" y="1400"/>
                </a:lnTo>
                <a:close/>
              </a:path>
              <a:path fill="darkenLess" w="134979" h="21600">
                <a:moveTo>
                  <a:pt x="134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79" y="20200"/>
                </a:lnTo>
                <a:close/>
              </a:path>
              <a:path fill="lighten" w="134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0"/>
          <p:cNvSpPr/>
          <p:nvPr/>
        </p:nvSpPr>
        <p:spPr>
          <a:xfrm>
            <a:off x="6386400" y="630396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412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4495680" y="6286680"/>
            <a:ext cx="1716120" cy="27432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134979" h="21600">
                <a:moveTo>
                  <a:pt x="0" y="0"/>
                </a:moveTo>
                <a:lnTo>
                  <a:pt x="134979" y="0"/>
                </a:lnTo>
                <a:lnTo>
                  <a:pt x="134979" y="21600"/>
                </a:lnTo>
                <a:lnTo>
                  <a:pt x="0" y="21600"/>
                </a:lnTo>
                <a:close/>
              </a:path>
              <a:path fill="lightenLess" w="134979" h="21600">
                <a:moveTo>
                  <a:pt x="0" y="0"/>
                </a:moveTo>
                <a:lnTo>
                  <a:pt x="134979" y="0"/>
                </a:lnTo>
                <a:lnTo>
                  <a:pt x="133579" y="1400"/>
                </a:lnTo>
                <a:lnTo>
                  <a:pt x="1400" y="1400"/>
                </a:lnTo>
                <a:close/>
              </a:path>
              <a:path fill="darken" w="134979" h="21600">
                <a:moveTo>
                  <a:pt x="134979" y="0"/>
                </a:moveTo>
                <a:lnTo>
                  <a:pt x="134979" y="21600"/>
                </a:lnTo>
                <a:lnTo>
                  <a:pt x="133579" y="20200"/>
                </a:lnTo>
                <a:lnTo>
                  <a:pt x="133579" y="1400"/>
                </a:lnTo>
                <a:close/>
              </a:path>
              <a:path fill="darkenLess" w="134979" h="21600">
                <a:moveTo>
                  <a:pt x="134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79" y="20200"/>
                </a:lnTo>
                <a:close/>
              </a:path>
              <a:path fill="lighten" w="134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6386400" y="630396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3429000" y="2127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World of Lif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990720" y="2484360"/>
            <a:ext cx="792468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91836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5"/>
          <p:cNvSpPr/>
          <p:nvPr/>
        </p:nvSpPr>
        <p:spPr>
          <a:xfrm>
            <a:off x="990720" y="167148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6"/>
          <p:cNvSpPr/>
          <p:nvPr/>
        </p:nvSpPr>
        <p:spPr>
          <a:xfrm>
            <a:off x="795240" y="2484360"/>
            <a:ext cx="4767480" cy="457200"/>
          </a:xfrm>
          <a:custGeom>
            <a:avLst/>
            <a:gdLst>
              <a:gd name="textAreaLeft" fmla="*/ 29520 w 4767480"/>
              <a:gd name="textAreaRight" fmla="*/ 4737960 w 4767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5075" h="21600">
                <a:moveTo>
                  <a:pt x="0" y="0"/>
                </a:moveTo>
                <a:lnTo>
                  <a:pt x="225075" y="0"/>
                </a:lnTo>
                <a:lnTo>
                  <a:pt x="225075" y="21600"/>
                </a:lnTo>
                <a:lnTo>
                  <a:pt x="0" y="21600"/>
                </a:lnTo>
                <a:close/>
              </a:path>
              <a:path fill="lightenLess" w="225075" h="21600">
                <a:moveTo>
                  <a:pt x="0" y="0"/>
                </a:moveTo>
                <a:lnTo>
                  <a:pt x="225075" y="0"/>
                </a:lnTo>
                <a:lnTo>
                  <a:pt x="223675" y="1400"/>
                </a:lnTo>
                <a:lnTo>
                  <a:pt x="1400" y="1400"/>
                </a:lnTo>
                <a:close/>
              </a:path>
              <a:path fill="darken" w="225075" h="21600">
                <a:moveTo>
                  <a:pt x="225075" y="0"/>
                </a:moveTo>
                <a:lnTo>
                  <a:pt x="225075" y="21600"/>
                </a:lnTo>
                <a:lnTo>
                  <a:pt x="223675" y="20200"/>
                </a:lnTo>
                <a:lnTo>
                  <a:pt x="223675" y="1400"/>
                </a:lnTo>
                <a:close/>
              </a:path>
              <a:path fill="darkenLess" w="225075" h="21600">
                <a:moveTo>
                  <a:pt x="225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75" y="20200"/>
                </a:lnTo>
                <a:close/>
              </a:path>
              <a:path fill="lighten" w="225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7"/>
          <p:cNvSpPr/>
          <p:nvPr/>
        </p:nvSpPr>
        <p:spPr>
          <a:xfrm>
            <a:off x="795240" y="3094200"/>
            <a:ext cx="4386240" cy="457200"/>
          </a:xfrm>
          <a:custGeom>
            <a:avLst/>
            <a:gdLst>
              <a:gd name="textAreaLeft" fmla="*/ 29520 w 4386240"/>
              <a:gd name="textAreaRight" fmla="*/ 4356720 w 43862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07078" h="21600">
                <a:moveTo>
                  <a:pt x="0" y="0"/>
                </a:moveTo>
                <a:lnTo>
                  <a:pt x="207078" y="0"/>
                </a:lnTo>
                <a:lnTo>
                  <a:pt x="207078" y="21600"/>
                </a:lnTo>
                <a:lnTo>
                  <a:pt x="0" y="21600"/>
                </a:lnTo>
                <a:close/>
              </a:path>
              <a:path fill="lightenLess" w="207078" h="21600">
                <a:moveTo>
                  <a:pt x="0" y="0"/>
                </a:moveTo>
                <a:lnTo>
                  <a:pt x="207078" y="0"/>
                </a:lnTo>
                <a:lnTo>
                  <a:pt x="205678" y="1400"/>
                </a:lnTo>
                <a:lnTo>
                  <a:pt x="1400" y="1400"/>
                </a:lnTo>
                <a:close/>
              </a:path>
              <a:path fill="darken" w="207078" h="21600">
                <a:moveTo>
                  <a:pt x="207078" y="0"/>
                </a:moveTo>
                <a:lnTo>
                  <a:pt x="207078" y="21600"/>
                </a:lnTo>
                <a:lnTo>
                  <a:pt x="205678" y="20200"/>
                </a:lnTo>
                <a:lnTo>
                  <a:pt x="205678" y="1400"/>
                </a:lnTo>
                <a:close/>
              </a:path>
              <a:path fill="darkenLess" w="207078" h="21600">
                <a:moveTo>
                  <a:pt x="207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678" y="20200"/>
                </a:lnTo>
                <a:close/>
              </a:path>
              <a:path fill="lighten" w="207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8"/>
          <p:cNvSpPr/>
          <p:nvPr/>
        </p:nvSpPr>
        <p:spPr>
          <a:xfrm>
            <a:off x="795240" y="3780000"/>
            <a:ext cx="4005360" cy="457200"/>
          </a:xfrm>
          <a:custGeom>
            <a:avLst/>
            <a:gdLst>
              <a:gd name="textAreaLeft" fmla="*/ 29520 w 4005360"/>
              <a:gd name="textAreaRight" fmla="*/ 3975840 w 400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89098" h="21600">
                <a:moveTo>
                  <a:pt x="0" y="0"/>
                </a:moveTo>
                <a:lnTo>
                  <a:pt x="189098" y="0"/>
                </a:lnTo>
                <a:lnTo>
                  <a:pt x="189098" y="21600"/>
                </a:lnTo>
                <a:lnTo>
                  <a:pt x="0" y="21600"/>
                </a:lnTo>
                <a:close/>
              </a:path>
              <a:path fill="lightenLess" w="189098" h="21600">
                <a:moveTo>
                  <a:pt x="0" y="0"/>
                </a:moveTo>
                <a:lnTo>
                  <a:pt x="189098" y="0"/>
                </a:lnTo>
                <a:lnTo>
                  <a:pt x="187698" y="1400"/>
                </a:lnTo>
                <a:lnTo>
                  <a:pt x="1400" y="1400"/>
                </a:lnTo>
                <a:close/>
              </a:path>
              <a:path fill="darken" w="189098" h="21600">
                <a:moveTo>
                  <a:pt x="189098" y="0"/>
                </a:moveTo>
                <a:lnTo>
                  <a:pt x="189098" y="21600"/>
                </a:lnTo>
                <a:lnTo>
                  <a:pt x="187698" y="20200"/>
                </a:lnTo>
                <a:lnTo>
                  <a:pt x="187698" y="1400"/>
                </a:lnTo>
                <a:close/>
              </a:path>
              <a:path fill="darkenLess" w="189098" h="21600">
                <a:moveTo>
                  <a:pt x="18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698" y="20200"/>
                </a:lnTo>
                <a:close/>
              </a:path>
              <a:path fill="lighten" w="18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9"/>
          <p:cNvSpPr/>
          <p:nvPr/>
        </p:nvSpPr>
        <p:spPr>
          <a:xfrm>
            <a:off x="795240" y="4465800"/>
            <a:ext cx="6062760" cy="457200"/>
          </a:xfrm>
          <a:custGeom>
            <a:avLst/>
            <a:gdLst>
              <a:gd name="textAreaLeft" fmla="*/ 29520 w 6062760"/>
              <a:gd name="textAreaRight" fmla="*/ 6033240 w 6062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6221" h="21600">
                <a:moveTo>
                  <a:pt x="0" y="0"/>
                </a:moveTo>
                <a:lnTo>
                  <a:pt x="286221" y="0"/>
                </a:lnTo>
                <a:lnTo>
                  <a:pt x="286221" y="21600"/>
                </a:lnTo>
                <a:lnTo>
                  <a:pt x="0" y="21600"/>
                </a:lnTo>
                <a:close/>
              </a:path>
              <a:path fill="lightenLess" w="286221" h="21600">
                <a:moveTo>
                  <a:pt x="0" y="0"/>
                </a:moveTo>
                <a:lnTo>
                  <a:pt x="286221" y="0"/>
                </a:lnTo>
                <a:lnTo>
                  <a:pt x="284821" y="1400"/>
                </a:lnTo>
                <a:lnTo>
                  <a:pt x="1400" y="1400"/>
                </a:lnTo>
                <a:close/>
              </a:path>
              <a:path fill="darken" w="286221" h="21600">
                <a:moveTo>
                  <a:pt x="286221" y="0"/>
                </a:moveTo>
                <a:lnTo>
                  <a:pt x="286221" y="21600"/>
                </a:lnTo>
                <a:lnTo>
                  <a:pt x="284821" y="20200"/>
                </a:lnTo>
                <a:lnTo>
                  <a:pt x="284821" y="1400"/>
                </a:lnTo>
                <a:close/>
              </a:path>
              <a:path fill="darkenLess" w="286221" h="21600">
                <a:moveTo>
                  <a:pt x="28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821" y="20200"/>
                </a:lnTo>
                <a:close/>
              </a:path>
              <a:path fill="lighten" w="28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1008000" y="19051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hat Are Scientific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1112760" y="2819520"/>
            <a:ext cx="7185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ientific meth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the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923040" y="-7632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0"/>
          <p:cNvSpPr/>
          <p:nvPr/>
        </p:nvSpPr>
        <p:spPr>
          <a:xfrm>
            <a:off x="838080" y="129528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cientif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1219320" y="1676520"/>
            <a:ext cx="7315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below to watch the Visual Conc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stop the video at any time by pressing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3"/>
          <a:stretch/>
        </p:blipFill>
        <p:spPr>
          <a:xfrm>
            <a:off x="2514600" y="3200400"/>
            <a:ext cx="3676680" cy="8064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4"/>
          <p:cNvSpPr/>
          <p:nvPr/>
        </p:nvSpPr>
        <p:spPr>
          <a:xfrm>
            <a:off x="2676600" y="3379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sual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1008000" y="2155680"/>
            <a:ext cx="71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k a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1008000" y="2963880"/>
            <a:ext cx="718524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ing a question helps focus the purpose of the investigation. Scientists often ask a question after making an obser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, students observing deformed frogs might ask, “Could something in the water be causing the deformitie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1008000" y="2255760"/>
            <a:ext cx="71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ake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1008000" y="3063960"/>
            <a:ext cx="718524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curate Observat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nformation that you gather through your senses is an observation. Scientist use standard tools and methods to make and record observ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1055520" y="167940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orm a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1055520" y="2563920"/>
            <a:ext cx="718524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ypothe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atement of cause and effect that can be used to set up a test for a hypothesis is called a predi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523880" y="1766880"/>
            <a:ext cx="6248520" cy="3887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823680" y="1066680"/>
            <a:ext cx="53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ypothesis Makes Predi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1008000" y="123336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est th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1008000" y="1828800"/>
            <a:ext cx="7185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nder Control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trolled experiment tests only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8" descr=""/>
          <p:cNvPicPr/>
          <p:nvPr/>
        </p:nvPicPr>
        <p:blipFill>
          <a:blip r:embed="rId2"/>
          <a:stretch/>
        </p:blipFill>
        <p:spPr>
          <a:xfrm>
            <a:off x="2055960" y="3048120"/>
            <a:ext cx="518148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1008000" y="17398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est the Hypothesi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990720" y="2563920"/>
            <a:ext cx="718488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igning an Experiment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ing a good experiment requires planning and a consideration of all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llecting Data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keep clear, accurate, honest records of their data so that other scientists can repeat the experiment and verify th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838080" y="10666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nalyze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1008000" y="1736640"/>
            <a:ext cx="318312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ey finish their tests, scientists must analyze the results. Analyzing the results helps scientists explain and focus on the effect of the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9" descr=""/>
          <p:cNvPicPr/>
          <p:nvPr/>
        </p:nvPicPr>
        <p:blipFill>
          <a:blip r:embed="rId2"/>
          <a:stretch/>
        </p:blipFill>
        <p:spPr>
          <a:xfrm>
            <a:off x="4441680" y="1219320"/>
            <a:ext cx="361656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900360" y="-3168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1008000" y="223200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raw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968400" y="3040200"/>
            <a:ext cx="72248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must conclude if the results of their tests support the hypothesis. Proving that a hypothesis is not true can be as valuable as proving that it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8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990720" y="2031840"/>
            <a:ext cx="7143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ellr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120680" y="3098880"/>
            <a:ext cx="70725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rite five questions about natural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are your questions with the cla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6868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1008000" y="13255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munic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990720" y="2133720"/>
            <a:ext cx="754380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finishing an investigation, scientists communicate their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ing allows other scientists to repeat experiments to see if they get the sam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, new data lead scientists to change their hypoth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7" descr=""/>
          <p:cNvPicPr/>
          <p:nvPr/>
        </p:nvPicPr>
        <p:blipFill>
          <a:blip r:embed="rId2"/>
          <a:stretch/>
        </p:blipFill>
        <p:spPr>
          <a:xfrm>
            <a:off x="958680" y="1106640"/>
            <a:ext cx="7413840" cy="49892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8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958680" y="1312920"/>
            <a:ext cx="7072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ellr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981000" y="2125800"/>
            <a:ext cx="7705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 the following questions in your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ience Jour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mod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several types of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models have you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968400" y="2664000"/>
            <a:ext cx="741348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amples of three types of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enefits and limitations of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ways that scientists use hypotheses, theories, and la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990720" y="1825560"/>
            <a:ext cx="58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1008000" y="15778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Scientif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1008000" y="2340000"/>
            <a:ext cx="705024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ysical Mode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Physical models,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thematical Mode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 mathematical model may be made up of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1008000" y="20257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Scientific Model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1141560" y="2863800"/>
            <a:ext cx="6916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ceptual Mode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nceptual models are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1"/>
          <p:cNvSpPr/>
          <p:nvPr/>
        </p:nvSpPr>
        <p:spPr>
          <a:xfrm>
            <a:off x="342900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1008000" y="140184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athematical Model: A Punnet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1044720" y="2438280"/>
            <a:ext cx="230796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unnett square helps scientists study the passing of traits from parents to offsp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2" descr=""/>
          <p:cNvPicPr/>
          <p:nvPr/>
        </p:nvPicPr>
        <p:blipFill>
          <a:blip r:embed="rId2"/>
          <a:stretch/>
        </p:blipFill>
        <p:spPr>
          <a:xfrm>
            <a:off x="3557520" y="2016000"/>
            <a:ext cx="4443480" cy="32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1008000" y="127944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uilding Scientific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1008000" y="2011320"/>
            <a:ext cx="7526520" cy="24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ientific Theo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* is called a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ientific La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 scientific law is a statement of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ientific Chan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f new evidence challenges an accepted idea, scientists must reexamine the old evidence and reevaluate the old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0"/>
          <p:cNvSpPr/>
          <p:nvPr/>
        </p:nvSpPr>
        <p:spPr>
          <a:xfrm>
            <a:off x="3200400" y="1522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1027080" y="18637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ellr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1027080" y="2597040"/>
            <a:ext cx="74311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an answer in your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ience jour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following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o you think scientists use tools such as graduated cylinders and stopwatch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1"/>
          <p:cNvSpPr/>
          <p:nvPr/>
        </p:nvSpPr>
        <p:spPr>
          <a:xfrm>
            <a:off x="3200400" y="15228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1066680" y="2111400"/>
            <a:ext cx="741384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examples of how life scientists use computers and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tools life scientists use or observe organis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importance of the International System of Units, and give four examples of SI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90720" y="1319040"/>
            <a:ext cx="55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3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990720" y="2763720"/>
            <a:ext cx="74134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mportance of asking questions in sc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life science a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ways life science is beneficial to living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4"/>
          <p:cNvSpPr/>
          <p:nvPr/>
        </p:nvSpPr>
        <p:spPr>
          <a:xfrm>
            <a:off x="990720" y="1849320"/>
            <a:ext cx="55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1"/>
          <p:cNvSpPr/>
          <p:nvPr/>
        </p:nvSpPr>
        <p:spPr>
          <a:xfrm>
            <a:off x="3200400" y="152280"/>
            <a:ext cx="48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1008000" y="132084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uters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1077840" y="2054160"/>
            <a:ext cx="760896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are used to create graphs, solve complex equations, and analyze and communicat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3200400" y="152280"/>
            <a:ext cx="48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008000" y="132084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ools for Se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077840" y="2054160"/>
            <a:ext cx="760896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und Light Microscop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ectron Microscop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electron microscopes produce clearer and more detailed images than light microscope, they cannot be used to observe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1008000" y="185580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its of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1008000" y="2587680"/>
            <a:ext cx="7373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International System of Unit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un by the French Academy of Sciences in the late 1700s, the SI is used by almost all countrie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SI units are based on the number 10, which makes conversion from one unit to another eas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7" descr=""/>
          <p:cNvPicPr/>
          <p:nvPr/>
        </p:nvPicPr>
        <p:blipFill>
          <a:blip r:embed="rId2"/>
          <a:stretch/>
        </p:blipFill>
        <p:spPr>
          <a:xfrm>
            <a:off x="1882800" y="1084320"/>
            <a:ext cx="5545080" cy="50004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8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1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1008000" y="13240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1008000" y="2125800"/>
            <a:ext cx="74502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basic unit of length in the SI is the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r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* Use the following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rea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length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measure of the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0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1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2"/>
          <p:cNvSpPr/>
          <p:nvPr/>
        </p:nvSpPr>
        <p:spPr>
          <a:xfrm>
            <a:off x="969840" y="184320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asurement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3"/>
          <p:cNvSpPr/>
          <p:nvPr/>
        </p:nvSpPr>
        <p:spPr>
          <a:xfrm>
            <a:off x="969840" y="2819520"/>
            <a:ext cx="771696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 measure of the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mpera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measure of how hot (or cold) somethin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362320" y="1955880"/>
            <a:ext cx="4724280" cy="36828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033200" y="113184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804960" y="1563840"/>
            <a:ext cx="7696080" cy="36097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1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990720" y="1427040"/>
            <a:ext cx="76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afety Ru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990720" y="2463840"/>
            <a:ext cx="373356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your teacher’s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lab procedures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y special attention to safety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9" descr=""/>
          <p:cNvPicPr/>
          <p:nvPr/>
        </p:nvPicPr>
        <p:blipFill>
          <a:blip r:embed="rId2"/>
          <a:stretch/>
        </p:blipFill>
        <p:spPr>
          <a:xfrm>
            <a:off x="4551480" y="1542960"/>
            <a:ext cx="3949560" cy="379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1"/>
          <p:cNvSpPr/>
          <p:nvPr/>
        </p:nvSpPr>
        <p:spPr>
          <a:xfrm>
            <a:off x="990720" y="116064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ncept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1047600" y="1828800"/>
            <a:ext cx="7705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 the terms below to complete the concept map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066680" y="2971800"/>
          <a:ext cx="7296120" cy="3170160"/>
        </p:xfrm>
        <a:graphic>
          <a:graphicData uri="http://schemas.openxmlformats.org/drawingml/2006/table">
            <a:tbl>
              <a:tblPr/>
              <a:tblGrid>
                <a:gridCol w="3649680"/>
                <a:gridCol w="3646440"/>
              </a:tblGrid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ientific meth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observa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trolled experi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rawing conclu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ient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4" name="Text Box 43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World of Lif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4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9907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t All Starts with a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1008000" y="2097000"/>
            <a:ext cx="71852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fe Sci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study of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 your Own Backy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ask questions about familia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ouring the Worl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s you ask about your neighborhood are just a sample of all the questions you could ask about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World of Lif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1563840" y="1027080"/>
            <a:ext cx="60195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World of Lif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1008000" y="1324080"/>
            <a:ext cx="73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ife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055520" y="2063880"/>
            <a:ext cx="71852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life scien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yone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and Men from any cultural background can become life scient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ywhere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scientists carry out investigations in laboratories, on farms, in forests, on the ocean floor––even in sp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ything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scientists study any thing that is a live, or that used to be alive, that interests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1066680" y="154944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hy Ask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1055520" y="2387520"/>
            <a:ext cx="718524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ighting Dise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cience has led to many life-saving discoveries, such as the vaccination for po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nderstanding Inherited Dise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By learning about how some diseases are inherited and how they affect people, scientists hope to find ways to prevent or cure these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1008000" y="16765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hy Ask Questions?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1008000" y="2486160"/>
            <a:ext cx="718524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tecting the Environ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derstanding how we affect the world around us is the first step in finding solutions to problems such as pollution and the extinction of wild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990720" y="2058840"/>
            <a:ext cx="685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ellr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1066680" y="2946240"/>
            <a:ext cx="70725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rite a brief response to this question: “Which is more important, imagination or knowled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rite your response in your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science jour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923040" y="-7632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044720" y="2286000"/>
            <a:ext cx="7413480" cy="30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appropriate design of a controlled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ormation in tables and graphs to analyze experimental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scientific knowledge can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990720" y="1447920"/>
            <a:ext cx="56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3-08-25T18:25:18Z</dcterms:modified>
  <cp:revision>247</cp:revision>
  <dc:subject/>
  <dc:title>No Slide Title</dc:title>
</cp:coreProperties>
</file>